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8942-D561-4886-924B-58D6A11F4B99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08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4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1" idx="0"/>
            <a:endCxn id="27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2"/>
            <a:endCxn id="27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89" name="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93" name="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" name=""/>
          <p:cNvCxnSpPr>
            <a:stCxn id="285" idx="2"/>
            <a:endCxn id="293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300" idx="2"/>
            <a:endCxn id="289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03" name="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301" idx="3"/>
            <a:endCxn id="304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21" idx="2"/>
            <a:endCxn id="322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6" idx="3"/>
            <a:endCxn id="317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1" idx="2"/>
            <a:endCxn id="330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26" name="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21" idx="2"/>
            <a:endCxn id="333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1" idx="2"/>
            <a:endCxn id="337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0"/>
            <a:endCxn id="346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4" idx="2"/>
            <a:endCxn id="348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3" idx="3"/>
            <a:endCxn id="350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5" idx="0"/>
          </p:cNvCxnSpPr>
          <p:nvPr/>
        </p:nvCxnSpPr>
        <p:spPr>
          <a:xfrm flipV="1" rot="10800000">
            <a:off x="5939640" y="1274400"/>
            <a:ext cx="1080" cy="811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57" name="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60" idx="2"/>
            <a:endCxn id="358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7" idx="3"/>
            <a:endCxn id="362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45" idx="2"/>
            <a:endCxn id="366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75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3"/>
            <a:endCxn id="377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0"/>
            <a:endCxn id="376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83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2"/>
            <a:endCxn id="373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5" idx="2"/>
            <a:endCxn id="383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9" idx="2"/>
            <a:endCxn id="390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3"/>
            <a:endCxn id="381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98" name="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90" name="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89" idx="2"/>
            <a:endCxn id="401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399" idx="3"/>
            <a:endCxn id="405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10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2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07" idx="0"/>
            <a:endCxn id="411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18" name="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2"/>
            <a:endCxn id="408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20" idx="2"/>
            <a:endCxn id="418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9" idx="3"/>
            <a:endCxn id="416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32" name="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36" name="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428" idx="0"/>
            <a:endCxn id="436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0"/>
            <a:endCxn id="432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49" name="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53" name="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57" name="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60" name="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64" name="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469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41680" y="5202360"/>
            <a:ext cx="1623240" cy="398880"/>
            <a:chOff x="2641680" y="5202360"/>
            <a:chExt cx="1623240" cy="398880"/>
          </a:xfrm>
        </p:grpSpPr>
        <p:sp>
          <p:nvSpPr>
            <p:cNvPr id="473" name=""/>
            <p:cNvSpPr/>
            <p:nvPr/>
          </p:nvSpPr>
          <p:spPr>
            <a:xfrm>
              <a:off x="2880360" y="520236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168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549800" y="3952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2"/>
            <a:endCxn id="474" idx="2"/>
          </p:cNvCxnSpPr>
          <p:nvPr/>
        </p:nvCxnSpPr>
        <p:spPr>
          <a:xfrm flipH="1" rot="16200000">
            <a:off x="1719000" y="453348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5" idx="3"/>
            <a:endCxn id="478" idx="2"/>
          </p:cNvCxnSpPr>
          <p:nvPr/>
        </p:nvCxnSpPr>
        <p:spPr>
          <a:xfrm flipV="1">
            <a:off x="2198160" y="4158720"/>
            <a:ext cx="986760" cy="720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87160" y="4495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213000" y="3905280"/>
            <a:ext cx="2282400" cy="412920"/>
            <a:chOff x="3213000" y="3905280"/>
            <a:chExt cx="2282400" cy="412920"/>
          </a:xfrm>
        </p:grpSpPr>
        <p:sp>
          <p:nvSpPr>
            <p:cNvPr id="481" name=""/>
            <p:cNvSpPr/>
            <p:nvPr/>
          </p:nvSpPr>
          <p:spPr>
            <a:xfrm>
              <a:off x="3450960" y="391932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13000" y="40654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7000" y="39052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641680" y="5780160"/>
            <a:ext cx="1935000" cy="398880"/>
            <a:chOff x="2641680" y="5780160"/>
            <a:chExt cx="1935000" cy="398880"/>
          </a:xfrm>
        </p:grpSpPr>
        <p:sp>
          <p:nvSpPr>
            <p:cNvPr id="484" name=""/>
            <p:cNvSpPr/>
            <p:nvPr/>
          </p:nvSpPr>
          <p:spPr>
            <a:xfrm>
              <a:off x="2865960" y="578016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1680" y="59119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6" name=""/>
          <p:cNvCxnSpPr>
            <a:stCxn id="475" idx="2"/>
            <a:endCxn id="485" idx="2"/>
          </p:cNvCxnSpPr>
          <p:nvPr/>
        </p:nvCxnSpPr>
        <p:spPr>
          <a:xfrm flipH="1" rot="16200000">
            <a:off x="1430280" y="482256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487" name=""/>
          <p:cNvGrpSpPr/>
          <p:nvPr/>
        </p:nvGrpSpPr>
        <p:grpSpPr>
          <a:xfrm>
            <a:off x="2625840" y="4626000"/>
            <a:ext cx="2018880" cy="398880"/>
            <a:chOff x="2625840" y="4626000"/>
            <a:chExt cx="2018880" cy="398880"/>
          </a:xfrm>
        </p:grpSpPr>
        <p:sp>
          <p:nvSpPr>
            <p:cNvPr id="488" name=""/>
            <p:cNvSpPr/>
            <p:nvPr/>
          </p:nvSpPr>
          <p:spPr>
            <a:xfrm>
              <a:off x="2863800" y="46260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2584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0" name=""/>
          <p:cNvCxnSpPr>
            <a:stCxn id="475" idx="2"/>
            <a:endCxn id="489" idx="2"/>
          </p:cNvCxnSpPr>
          <p:nvPr/>
        </p:nvCxnSpPr>
        <p:spPr>
          <a:xfrm flipH="1" rot="16200000">
            <a:off x="1999440" y="425340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7226280" y="13539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3480" y="1981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595840" y="2822400"/>
            <a:ext cx="3232440" cy="703800"/>
            <a:chOff x="5595840" y="2822400"/>
            <a:chExt cx="3232440" cy="703800"/>
          </a:xfrm>
        </p:grpSpPr>
        <p:sp>
          <p:nvSpPr>
            <p:cNvPr id="494" name=""/>
            <p:cNvSpPr/>
            <p:nvPr/>
          </p:nvSpPr>
          <p:spPr>
            <a:xfrm>
              <a:off x="5814360" y="2822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95840" y="3098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6" name=""/>
          <p:cNvCxnSpPr>
            <a:stCxn id="497" idx="3"/>
            <a:endCxn id="495" idx="2"/>
          </p:cNvCxnSpPr>
          <p:nvPr/>
        </p:nvCxnSpPr>
        <p:spPr>
          <a:xfrm>
            <a:off x="3427560" y="319104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6785640" y="9000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3760" y="29782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0"/>
            <a:endCxn id="491" idx="4"/>
          </p:cNvCxnSpPr>
          <p:nvPr/>
        </p:nvCxnSpPr>
        <p:spPr>
          <a:xfrm flipH="1" flipV="1">
            <a:off x="7319160" y="155520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528920" y="1563840"/>
            <a:ext cx="317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7" idx="2"/>
            <a:endCxn id="502" idx="0"/>
          </p:cNvCxnSpPr>
          <p:nvPr/>
        </p:nvCxnSpPr>
        <p:spPr>
          <a:xfrm flipH="1" rot="16200000">
            <a:off x="1703520" y="3568320"/>
            <a:ext cx="303840" cy="2160"/>
          </a:xfrm>
          <a:prstGeom prst="bentConnector3">
            <a:avLst>
              <a:gd name="adj1" fmla="val 523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177804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220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90680" y="855720"/>
            <a:ext cx="5291280" cy="2065320"/>
            <a:chOff x="490680" y="855720"/>
            <a:chExt cx="5291280" cy="2065320"/>
          </a:xfrm>
        </p:grpSpPr>
        <p:sp>
          <p:nvSpPr>
            <p:cNvPr id="505" name=""/>
            <p:cNvSpPr/>
            <p:nvPr/>
          </p:nvSpPr>
          <p:spPr>
            <a:xfrm>
              <a:off x="490680" y="85572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27334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endCxn id="506" idx="0"/>
            </p:cNvCxnSpPr>
            <p:nvPr/>
          </p:nvCxnSpPr>
          <p:spPr>
            <a:xfrm rot="5400000">
              <a:off x="138600" y="198684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08" name=""/>
            <p:cNvGrpSpPr/>
            <p:nvPr/>
          </p:nvGrpSpPr>
          <p:grpSpPr>
            <a:xfrm>
              <a:off x="1245960" y="1269720"/>
              <a:ext cx="4536000" cy="1509840"/>
              <a:chOff x="1245960" y="1269720"/>
              <a:chExt cx="4536000" cy="1509840"/>
            </a:xfrm>
          </p:grpSpPr>
          <p:sp>
            <p:nvSpPr>
              <p:cNvPr id="509" name=""/>
              <p:cNvSpPr/>
              <p:nvPr/>
            </p:nvSpPr>
            <p:spPr>
              <a:xfrm>
                <a:off x="1560600" y="140472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15920" y="191592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22760" y="241128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95600" y="200952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86240" y="253368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49040" y="172548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6640" y="224640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4257720" y="1496880"/>
                <a:ext cx="1524240" cy="376200"/>
                <a:chOff x="4257720" y="1496880"/>
                <a:chExt cx="1524240" cy="3762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257720" y="1652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4456800" y="1496880"/>
                  <a:ext cx="1325160" cy="376200"/>
                  <a:chOff x="4456800" y="1496880"/>
                  <a:chExt cx="1325160" cy="3762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456800" y="149688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5650920" y="150768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521" name=""/>
              <p:cNvCxnSpPr>
                <a:stCxn id="513" idx="2"/>
              </p:cNvCxnSpPr>
              <p:nvPr/>
            </p:nvCxnSpPr>
            <p:spPr>
              <a:xfrm rot="10800000">
                <a:off x="1245600" y="126936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"/>
              <p:cNvCxnSpPr>
                <a:stCxn id="512" idx="2"/>
                <a:endCxn id="505" idx="2"/>
              </p:cNvCxnSpPr>
              <p:nvPr/>
            </p:nvCxnSpPr>
            <p:spPr>
              <a:xfrm rot="10800000">
                <a:off x="1851840" y="129456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"/>
              <p:cNvCxnSpPr>
                <a:stCxn id="517" idx="2"/>
              </p:cNvCxnSpPr>
              <p:nvPr/>
            </p:nvCxnSpPr>
            <p:spPr>
              <a:xfrm rot="10800000">
                <a:off x="2515320" y="126936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24" name=""/>
              <p:cNvSpPr/>
              <p:nvPr/>
            </p:nvSpPr>
            <p:spPr>
              <a:xfrm>
                <a:off x="2600280" y="136044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610000" y="2654280"/>
            <a:ext cx="2895840" cy="398880"/>
            <a:chOff x="2610000" y="2654280"/>
            <a:chExt cx="2895840" cy="398880"/>
          </a:xfrm>
        </p:grpSpPr>
        <p:sp>
          <p:nvSpPr>
            <p:cNvPr id="527" name=""/>
            <p:cNvSpPr/>
            <p:nvPr/>
          </p:nvSpPr>
          <p:spPr>
            <a:xfrm>
              <a:off x="2847240" y="26542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10000" y="2786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90960" y="1015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2"/>
            <a:endCxn id="528" idx="2"/>
          </p:cNvCxnSpPr>
          <p:nvPr/>
        </p:nvCxnSpPr>
        <p:spPr>
          <a:xfrm flipH="1" rot="16200000">
            <a:off x="2084760" y="238392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7" idx="3"/>
            <a:endCxn id="533" idx="2"/>
          </p:cNvCxnSpPr>
          <p:nvPr/>
        </p:nvCxnSpPr>
        <p:spPr>
          <a:xfrm>
            <a:off x="5532480" y="286704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296640" y="1685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3640" y="263376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3680" y="27795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593800" y="4002120"/>
            <a:ext cx="3094200" cy="398880"/>
            <a:chOff x="2593800" y="4002120"/>
            <a:chExt cx="3094200" cy="398880"/>
          </a:xfrm>
        </p:grpSpPr>
        <p:sp>
          <p:nvSpPr>
            <p:cNvPr id="537" name=""/>
            <p:cNvSpPr/>
            <p:nvPr/>
          </p:nvSpPr>
          <p:spPr>
            <a:xfrm>
              <a:off x="2815920" y="400212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3800" y="41338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9" name=""/>
          <p:cNvCxnSpPr>
            <a:stCxn id="531" idx="2"/>
            <a:endCxn id="538" idx="2"/>
          </p:cNvCxnSpPr>
          <p:nvPr/>
        </p:nvCxnSpPr>
        <p:spPr>
          <a:xfrm flipH="1" rot="16200000">
            <a:off x="1402920" y="3065760"/>
            <a:ext cx="194076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0" name=""/>
          <p:cNvGrpSpPr/>
          <p:nvPr/>
        </p:nvGrpSpPr>
        <p:grpSpPr>
          <a:xfrm>
            <a:off x="1054080" y="1847880"/>
            <a:ext cx="2018880" cy="398880"/>
            <a:chOff x="1054080" y="1847880"/>
            <a:chExt cx="2018880" cy="398880"/>
          </a:xfrm>
        </p:grpSpPr>
        <p:sp>
          <p:nvSpPr>
            <p:cNvPr id="531" name=""/>
            <p:cNvSpPr/>
            <p:nvPr/>
          </p:nvSpPr>
          <p:spPr>
            <a:xfrm>
              <a:off x="1292040" y="184788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54080" y="1979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2" name=""/>
          <p:cNvCxnSpPr>
            <a:stCxn id="529" idx="2"/>
            <a:endCxn id="541" idx="2"/>
          </p:cNvCxnSpPr>
          <p:nvPr/>
        </p:nvCxnSpPr>
        <p:spPr>
          <a:xfrm flipH="1" rot="16200000">
            <a:off x="554760" y="160200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2353680" y="570060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65560" y="5467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37" idx="2"/>
            <a:endCxn id="544" idx="0"/>
          </p:cNvCxnSpPr>
          <p:nvPr/>
        </p:nvCxnSpPr>
        <p:spPr>
          <a:xfrm flipH="1" rot="16200000">
            <a:off x="3756600" y="4937040"/>
            <a:ext cx="997920" cy="6840"/>
          </a:xfrm>
          <a:prstGeom prst="bentConnector3">
            <a:avLst>
              <a:gd name="adj1" fmla="val 5063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7959600" y="30654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52160" y="248904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41280" y="382284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7" idx="3"/>
            <a:endCxn id="546" idx="4"/>
          </p:cNvCxnSpPr>
          <p:nvPr/>
        </p:nvCxnSpPr>
        <p:spPr>
          <a:xfrm flipV="1">
            <a:off x="5713560" y="3266280"/>
            <a:ext cx="2340360" cy="94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52" name="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2"/>
            <a:endCxn id="553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8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63" name="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5" name=""/>
          <p:cNvCxnSpPr>
            <a:stCxn id="552" idx="2"/>
            <a:endCxn id="564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66" name="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56" name="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8" name=""/>
          <p:cNvCxnSpPr>
            <a:stCxn id="554" idx="2"/>
            <a:endCxn id="567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2" idx="2"/>
            <a:endCxn id="570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4" idx="2"/>
            <a:endCxn id="576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2936880" y="1012680"/>
          <a:ext cx="554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1012680"/>
                    <a:ext cx="554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082520" y="1081080"/>
            <a:ext cx="739152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2165400" y="1201680"/>
            <a:ext cx="5432760" cy="1962000"/>
            <a:chOff x="2165400" y="1201680"/>
            <a:chExt cx="5432760" cy="1962000"/>
          </a:xfrm>
        </p:grpSpPr>
        <p:sp>
          <p:nvSpPr>
            <p:cNvPr id="581" name=""/>
            <p:cNvSpPr/>
            <p:nvPr/>
          </p:nvSpPr>
          <p:spPr>
            <a:xfrm>
              <a:off x="2165400" y="12110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8160" y="12016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1" idx="3"/>
              <a:endCxn id="584" idx="2"/>
            </p:cNvCxnSpPr>
            <p:nvPr/>
          </p:nvCxnSpPr>
          <p:spPr>
            <a:xfrm flipV="1">
              <a:off x="4114800" y="156312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85" name=""/>
            <p:cNvGrpSpPr/>
            <p:nvPr/>
          </p:nvGrpSpPr>
          <p:grpSpPr>
            <a:xfrm>
              <a:off x="6615360" y="1344600"/>
              <a:ext cx="982800" cy="398880"/>
              <a:chOff x="6615360" y="1344600"/>
              <a:chExt cx="982800" cy="398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615360" y="1487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92480" y="134460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3245040" y="194940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066680" y="1109520"/>
            <a:ext cx="7391520" cy="48135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1180800" y="1332000"/>
            <a:ext cx="7142040" cy="1984680"/>
            <a:chOff x="1180800" y="1332000"/>
            <a:chExt cx="7142040" cy="1984680"/>
          </a:xfrm>
        </p:grpSpPr>
        <p:sp>
          <p:nvSpPr>
            <p:cNvPr id="591" name=""/>
            <p:cNvSpPr/>
            <p:nvPr/>
          </p:nvSpPr>
          <p:spPr>
            <a:xfrm>
              <a:off x="1324440" y="135576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1" idx="2"/>
              <a:endCxn id="593" idx="0"/>
            </p:cNvCxnSpPr>
            <p:nvPr/>
          </p:nvCxnSpPr>
          <p:spPr>
            <a:xfrm>
              <a:off x="2463120" y="210024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2534040" y="21081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180800" y="2757240"/>
              <a:ext cx="2644920" cy="559440"/>
              <a:chOff x="1180800" y="2757240"/>
              <a:chExt cx="2644920" cy="559440"/>
            </a:xfrm>
          </p:grpSpPr>
          <p:sp>
            <p:nvSpPr>
              <p:cNvPr id="593" name=""/>
              <p:cNvSpPr/>
              <p:nvPr/>
            </p:nvSpPr>
            <p:spPr>
              <a:xfrm>
                <a:off x="2387520" y="27572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80800" y="291780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705480" y="133200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190920" y="1536120"/>
              <a:ext cx="2131920" cy="374760"/>
              <a:chOff x="6190920" y="1536120"/>
              <a:chExt cx="2131920" cy="3747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90920" y="1658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33480" y="15379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8197200" y="1536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2" name=""/>
            <p:cNvCxnSpPr>
              <a:stCxn id="591" idx="3"/>
              <a:endCxn id="599" idx="2"/>
            </p:cNvCxnSpPr>
            <p:nvPr/>
          </p:nvCxnSpPr>
          <p:spPr>
            <a:xfrm>
              <a:off x="3628440" y="172080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3" name=""/>
            <p:cNvSpPr/>
            <p:nvPr/>
          </p:nvSpPr>
          <p:spPr>
            <a:xfrm>
              <a:off x="6605280" y="196524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7040" y="165240"/>
            <a:ext cx="3929040" cy="601956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768960" y="237960"/>
            <a:ext cx="8198640" cy="2906640"/>
            <a:chOff x="768960" y="237960"/>
            <a:chExt cx="8198640" cy="2906640"/>
          </a:xfrm>
        </p:grpSpPr>
        <p:sp>
          <p:nvSpPr>
            <p:cNvPr id="607" name=""/>
            <p:cNvSpPr/>
            <p:nvPr/>
          </p:nvSpPr>
          <p:spPr>
            <a:xfrm>
              <a:off x="4262760" y="2379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0400" y="11444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0400" y="10918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8" idx="3"/>
              <a:endCxn id="611" idx="2"/>
            </p:cNvCxnSpPr>
            <p:nvPr/>
          </p:nvCxnSpPr>
          <p:spPr>
            <a:xfrm flipV="1">
              <a:off x="4069800" y="149616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12" name=""/>
            <p:cNvGrpSpPr/>
            <p:nvPr/>
          </p:nvGrpSpPr>
          <p:grpSpPr>
            <a:xfrm>
              <a:off x="6684840" y="1277640"/>
              <a:ext cx="982800" cy="398880"/>
              <a:chOff x="6684840" y="1277640"/>
              <a:chExt cx="982800" cy="398880"/>
            </a:xfrm>
          </p:grpSpPr>
          <p:sp>
            <p:nvSpPr>
              <p:cNvPr id="611" name=""/>
              <p:cNvSpPr/>
              <p:nvPr/>
            </p:nvSpPr>
            <p:spPr>
              <a:xfrm>
                <a:off x="6684840" y="1420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61960" y="12776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1757880" y="216828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81920" y="217296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6835680" y="2349000"/>
              <a:ext cx="2131920" cy="374760"/>
              <a:chOff x="6835680" y="2349000"/>
              <a:chExt cx="2131920" cy="374760"/>
            </a:xfrm>
          </p:grpSpPr>
          <p:sp>
            <p:nvSpPr>
              <p:cNvPr id="617" name=""/>
              <p:cNvSpPr/>
              <p:nvPr/>
            </p:nvSpPr>
            <p:spPr>
              <a:xfrm>
                <a:off x="6835680" y="2471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78240" y="235080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8841960" y="23490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0" name=""/>
            <p:cNvCxnSpPr>
              <a:stCxn id="614" idx="3"/>
              <a:endCxn id="617" idx="2"/>
            </p:cNvCxnSpPr>
            <p:nvPr/>
          </p:nvCxnSpPr>
          <p:spPr>
            <a:xfrm>
              <a:off x="4062240" y="253332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1" name=""/>
            <p:cNvSpPr/>
            <p:nvPr/>
          </p:nvSpPr>
          <p:spPr>
            <a:xfrm>
              <a:off x="7249680" y="277776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8960" y="4060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622" idx="3"/>
              <a:endCxn id="624" idx="2"/>
            </p:cNvCxnSpPr>
            <p:nvPr/>
          </p:nvCxnSpPr>
          <p:spPr>
            <a:xfrm>
              <a:off x="3453840" y="61848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"/>
            <p:cNvGrpSpPr/>
            <p:nvPr/>
          </p:nvGrpSpPr>
          <p:grpSpPr>
            <a:xfrm>
              <a:off x="5617800" y="394920"/>
              <a:ext cx="2957400" cy="398880"/>
              <a:chOff x="5617800" y="394920"/>
              <a:chExt cx="2957400" cy="398880"/>
            </a:xfrm>
          </p:grpSpPr>
          <p:sp>
            <p:nvSpPr>
              <p:cNvPr id="624" name=""/>
              <p:cNvSpPr/>
              <p:nvPr/>
            </p:nvSpPr>
            <p:spPr>
              <a:xfrm>
                <a:off x="5617800" y="5522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75120" y="39492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7" name=""/>
            <p:cNvCxnSpPr>
              <a:stCxn id="628" idx="2"/>
              <a:endCxn id="614" idx="1"/>
            </p:cNvCxnSpPr>
            <p:nvPr/>
          </p:nvCxnSpPr>
          <p:spPr>
            <a:xfrm flipH="1" rot="16200000">
              <a:off x="490320" y="129312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29" name=""/>
            <p:cNvCxnSpPr>
              <a:stCxn id="628" idx="2"/>
              <a:endCxn id="608" idx="1"/>
            </p:cNvCxnSpPr>
            <p:nvPr/>
          </p:nvCxnSpPr>
          <p:spPr>
            <a:xfrm flipH="1" rot="16200000">
              <a:off x="1184040" y="59940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30" name=""/>
            <p:cNvSpPr/>
            <p:nvPr/>
          </p:nvSpPr>
          <p:spPr>
            <a:xfrm>
              <a:off x="984240" y="173664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4360" y="58248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33240" y="2428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79200" y="1417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066680" y="2249640"/>
            <a:ext cx="739152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091520" y="2252520"/>
            <a:ext cx="2658600" cy="1716480"/>
            <a:chOff x="1091520" y="2252520"/>
            <a:chExt cx="2658600" cy="1716480"/>
          </a:xfrm>
        </p:grpSpPr>
        <p:sp>
          <p:nvSpPr>
            <p:cNvPr id="656" name=""/>
            <p:cNvSpPr/>
            <p:nvPr/>
          </p:nvSpPr>
          <p:spPr>
            <a:xfrm>
              <a:off x="1091520" y="225252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6480" y="3090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6" idx="2"/>
              <a:endCxn id="657" idx="0"/>
            </p:cNvCxnSpPr>
            <p:nvPr/>
          </p:nvCxnSpPr>
          <p:spPr>
            <a:xfrm>
              <a:off x="2420640" y="269208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9" name=""/>
            <p:cNvSpPr/>
            <p:nvPr/>
          </p:nvSpPr>
          <p:spPr>
            <a:xfrm>
              <a:off x="2520360" y="27162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78720" y="326520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951360" y="2585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3640" y="273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666760" y="4489560"/>
            <a:ext cx="2772360" cy="1411560"/>
            <a:chOff x="5666760" y="4489560"/>
            <a:chExt cx="2772360" cy="1411560"/>
          </a:xfrm>
        </p:grpSpPr>
        <p:sp>
          <p:nvSpPr>
            <p:cNvPr id="664" name=""/>
            <p:cNvSpPr/>
            <p:nvPr/>
          </p:nvSpPr>
          <p:spPr>
            <a:xfrm>
              <a:off x="5666760" y="448956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78440" y="53276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6" name=""/>
            <p:cNvCxnSpPr>
              <a:stCxn id="664" idx="2"/>
              <a:endCxn id="665" idx="0"/>
            </p:cNvCxnSpPr>
            <p:nvPr/>
          </p:nvCxnSpPr>
          <p:spPr>
            <a:xfrm>
              <a:off x="6848280" y="4929120"/>
              <a:ext cx="7200" cy="384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"/>
            <p:cNvSpPr/>
            <p:nvPr/>
          </p:nvSpPr>
          <p:spPr>
            <a:xfrm>
              <a:off x="6953040" y="495288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60200" y="550224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600" y="3484440"/>
            <a:ext cx="2743200" cy="2668680"/>
            <a:chOff x="255600" y="3484440"/>
            <a:chExt cx="2743200" cy="2668680"/>
          </a:xfrm>
        </p:grpSpPr>
        <p:sp>
          <p:nvSpPr>
            <p:cNvPr id="671" name=""/>
            <p:cNvSpPr/>
            <p:nvPr/>
          </p:nvSpPr>
          <p:spPr>
            <a:xfrm>
              <a:off x="25560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28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5" idx="6"/>
            <a:endCxn id="674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4" idx="2"/>
            <a:endCxn id="678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84" name="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6" name=""/>
          <p:cNvCxnSpPr>
            <a:stCxn id="687" idx="3"/>
            <a:endCxn id="685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4" idx="0"/>
            <a:endCxn id="690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6" idx="2"/>
            <a:endCxn id="697" idx="0"/>
          </p:cNvCxnSpPr>
          <p:nvPr/>
        </p:nvCxnSpPr>
        <p:spPr>
          <a:xfrm rot="5400000">
            <a:off x="-826200" y="3316320"/>
            <a:ext cx="3690000" cy="1008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699" name="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07" name="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711" name=""/>
            <p:cNvCxnSpPr>
              <a:stCxn id="703" idx="2"/>
              <a:endCxn id="692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02" idx="2"/>
              <a:endCxn id="694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707" idx="2"/>
              <a:endCxn id="693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696" idx="2"/>
            <a:endCxn id="716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1320" y="1190520"/>
            <a:ext cx="365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0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3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98" idx="2"/>
            <a:endCxn id="101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8" idx="2"/>
            <a:endCxn id="104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0" idx="0"/>
            <a:endCxn id="114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0"/>
            <a:endCxn id="113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0"/>
            <a:endCxn id="122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5" idx="0"/>
            <a:endCxn id="124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2" idx="0"/>
            <a:endCxn id="128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6" idx="0"/>
            <a:endCxn id="130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6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92480" y="10447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8" idx="2"/>
            <a:endCxn id="720" idx="2"/>
          </p:cNvCxnSpPr>
          <p:nvPr/>
        </p:nvCxnSpPr>
        <p:spPr>
          <a:xfrm flipH="1" rot="16200000">
            <a:off x="561960" y="1958040"/>
            <a:ext cx="15184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21" name=""/>
          <p:cNvGrpSpPr/>
          <p:nvPr/>
        </p:nvGrpSpPr>
        <p:grpSpPr>
          <a:xfrm>
            <a:off x="1682640" y="4011480"/>
            <a:ext cx="2603520" cy="397440"/>
            <a:chOff x="1682640" y="4011480"/>
            <a:chExt cx="2603520" cy="397440"/>
          </a:xfrm>
        </p:grpSpPr>
        <p:sp>
          <p:nvSpPr>
            <p:cNvPr id="722" name=""/>
            <p:cNvSpPr/>
            <p:nvPr/>
          </p:nvSpPr>
          <p:spPr>
            <a:xfrm>
              <a:off x="1896840" y="401148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82640" y="4130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278080" y="174132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63880" y="1892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35120" y="5694480"/>
            <a:ext cx="2857320" cy="397440"/>
            <a:chOff x="1635120" y="5694480"/>
            <a:chExt cx="2857320" cy="397440"/>
          </a:xfrm>
        </p:grpSpPr>
        <p:sp>
          <p:nvSpPr>
            <p:cNvPr id="727" name=""/>
            <p:cNvSpPr/>
            <p:nvPr/>
          </p:nvSpPr>
          <p:spPr>
            <a:xfrm>
              <a:off x="1849320" y="56944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35120" y="5813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35120" y="2773440"/>
            <a:ext cx="2857320" cy="397440"/>
            <a:chOff x="1635120" y="2773440"/>
            <a:chExt cx="2857320" cy="397440"/>
          </a:xfrm>
        </p:grpSpPr>
        <p:sp>
          <p:nvSpPr>
            <p:cNvPr id="730" name=""/>
            <p:cNvSpPr/>
            <p:nvPr/>
          </p:nvSpPr>
          <p:spPr>
            <a:xfrm>
              <a:off x="1849320" y="27734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35120" y="290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1" name=""/>
          <p:cNvCxnSpPr>
            <a:stCxn id="718" idx="2"/>
            <a:endCxn id="728" idx="2"/>
          </p:cNvCxnSpPr>
          <p:nvPr/>
        </p:nvCxnSpPr>
        <p:spPr>
          <a:xfrm flipH="1" rot="16200000">
            <a:off x="-890640" y="3410640"/>
            <a:ext cx="44236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18" idx="2"/>
            <a:endCxn id="723" idx="2"/>
          </p:cNvCxnSpPr>
          <p:nvPr/>
        </p:nvCxnSpPr>
        <p:spPr>
          <a:xfrm flipH="1" rot="16200000">
            <a:off x="-25560" y="254520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34" idx="2"/>
            <a:endCxn id="725" idx="2"/>
          </p:cNvCxnSpPr>
          <p:nvPr/>
        </p:nvCxnSpPr>
        <p:spPr>
          <a:xfrm flipH="1" rot="16200000">
            <a:off x="1481040" y="1431720"/>
            <a:ext cx="49464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1285920" y="1285920"/>
            <a:ext cx="270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2520" y="11793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0" idx="3"/>
            <a:endCxn id="737" idx="2"/>
          </p:cNvCxnSpPr>
          <p:nvPr/>
        </p:nvCxnSpPr>
        <p:spPr>
          <a:xfrm flipV="1">
            <a:off x="4506840" y="29700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1848240" y="9032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24" idx="0"/>
            <a:endCxn id="735" idx="6"/>
          </p:cNvCxnSpPr>
          <p:nvPr/>
        </p:nvCxnSpPr>
        <p:spPr>
          <a:xfrm flipV="1" rot="16200000">
            <a:off x="2484720" y="6112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5865840" y="397980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53400" y="2876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51760" y="27576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83440" y="255420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31560" y="31100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440" y="3765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44" idx="0"/>
            <a:endCxn id="730" idx="2"/>
          </p:cNvCxnSpPr>
          <p:nvPr/>
        </p:nvCxnSpPr>
        <p:spPr>
          <a:xfrm flipV="1" rot="16200000">
            <a:off x="4887720" y="149652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651640" y="4130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70480" y="44640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3920" y="4448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8" idx="4"/>
            <a:endCxn id="727" idx="3"/>
          </p:cNvCxnSpPr>
          <p:nvPr/>
        </p:nvCxnSpPr>
        <p:spPr>
          <a:xfrm rot="5400000">
            <a:off x="5742720" y="3412800"/>
            <a:ext cx="125820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22" idx="3"/>
            <a:endCxn id="746" idx="2"/>
          </p:cNvCxnSpPr>
          <p:nvPr/>
        </p:nvCxnSpPr>
        <p:spPr>
          <a:xfrm>
            <a:off x="4300200" y="422388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4450680" y="384012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47" idx="4"/>
            <a:endCxn id="727" idx="0"/>
          </p:cNvCxnSpPr>
          <p:nvPr/>
        </p:nvCxnSpPr>
        <p:spPr>
          <a:xfrm rot="5400000">
            <a:off x="4260240" y="3576600"/>
            <a:ext cx="1015200" cy="319320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34000" y="47768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8680" y="552276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928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57" name="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61" name="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360 w 1573200"/>
                  <a:gd name="textAreaRight" fmla="*/ 1573920 w 1573200"/>
                  <a:gd name="textAreaTop" fmla="*/ 360 h 939600"/>
                  <a:gd name="textAreaBottom" fmla="*/ 94032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97" stAng="10800000" swAng="5400000"/>
                    <a:lnTo>
                      <a:pt x="12610" y="2663"/>
                    </a:lnTo>
                    <a:lnTo>
                      <a:pt x="12610" y="0"/>
                    </a:lnTo>
                    <a:lnTo>
                      <a:pt x="21600" y="6079"/>
                    </a:lnTo>
                    <a:lnTo>
                      <a:pt x="12610" y="12158"/>
                    </a:lnTo>
                    <a:lnTo>
                      <a:pt x="12610" y="9495"/>
                    </a:lnTo>
                    <a:lnTo>
                      <a:pt x="12427" y="9495"/>
                    </a:lnTo>
                    <a:arcTo wR="5595" hR="2665" stAng="16200000" swAng="-5400000"/>
                    <a:lnTo>
                      <a:pt x="683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112760"/>
                  <a:gd name="textAreaBottom" fmla="*/ 111276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357" stAng="10800000" swAng="5400000"/>
                    <a:lnTo>
                      <a:pt x="16289" y="2803"/>
                    </a:lnTo>
                    <a:lnTo>
                      <a:pt x="16289" y="0"/>
                    </a:lnTo>
                    <a:lnTo>
                      <a:pt x="21600" y="6079"/>
                    </a:lnTo>
                    <a:lnTo>
                      <a:pt x="16289" y="12158"/>
                    </a:lnTo>
                    <a:lnTo>
                      <a:pt x="16289" y="9355"/>
                    </a:lnTo>
                    <a:lnTo>
                      <a:pt x="12427" y="9355"/>
                    </a:lnTo>
                    <a:arcTo wR="5875" hR="2805" stAng="16200000" swAng="-5400000"/>
                    <a:lnTo>
                      <a:pt x="655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2"/>
            <a:endCxn id="769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71" name="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1"/>
            <a:endCxn id="771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4" name="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3"/>
            <a:endCxn id="774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68" idx="2"/>
            <a:endCxn id="779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7" idx="2"/>
            <a:endCxn id="781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5" name=""/>
          <p:cNvCxnSpPr>
            <a:stCxn id="786" idx="2"/>
            <a:endCxn id="787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8" name="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789" name="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792" name="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6" idx="2"/>
            <a:endCxn id="794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86" idx="2"/>
            <a:endCxn id="796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6" idx="2"/>
            <a:endCxn id="790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799" name="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01" name="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04" name="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07" name="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8" name=""/>
          <p:cNvCxnSpPr>
            <a:stCxn id="786" idx="2"/>
            <a:endCxn id="805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9" name=""/>
          <p:cNvCxnSpPr>
            <a:stCxn id="786" idx="2"/>
            <a:endCxn id="802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4" idx="2"/>
            <a:endCxn id="815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6" name="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4" idx="2"/>
            <a:endCxn id="820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1" name=""/>
          <p:cNvCxnSpPr>
            <a:stCxn id="814" idx="2"/>
            <a:endCxn id="822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14" idx="2"/>
            <a:endCxn id="817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14" idx="2"/>
            <a:endCxn id="826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834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38" name="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0" name=""/>
          <p:cNvCxnSpPr>
            <a:stCxn id="841" idx="2"/>
            <a:endCxn id="839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1" idx="2"/>
            <a:endCxn id="843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46" name="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49" name="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1" name=""/>
          <p:cNvCxnSpPr>
            <a:stCxn id="841" idx="2"/>
            <a:endCxn id="850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52" name="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53" name="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5" name=""/>
          <p:cNvCxnSpPr>
            <a:stCxn id="841" idx="2"/>
            <a:endCxn id="854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"/>
          <p:cNvCxnSpPr>
            <a:stCxn id="846" idx="0"/>
            <a:endCxn id="859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1" name="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6" idx="2"/>
            <a:endCxn id="862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66" name="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8" name=""/>
          <p:cNvCxnSpPr>
            <a:stCxn id="841" idx="2"/>
            <a:endCxn id="867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"/>
          <p:cNvCxnSpPr>
            <a:stCxn id="849" idx="3"/>
            <a:endCxn id="870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66" idx="3"/>
            <a:endCxn id="872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38" idx="3"/>
            <a:endCxn id="874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57" idx="0"/>
            <a:endCxn id="853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endCxn id="878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78" name="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887" name="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87" idx="3"/>
            <a:endCxn id="889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5" idx="2"/>
            <a:endCxn id="888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894" name="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6" name=""/>
          <p:cNvCxnSpPr>
            <a:stCxn id="897" idx="2"/>
            <a:endCxn id="895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899" name="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02" name="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4" name=""/>
          <p:cNvCxnSpPr>
            <a:stCxn id="897" idx="2"/>
            <a:endCxn id="900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7" idx="2"/>
            <a:endCxn id="903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899" idx="3"/>
            <a:endCxn id="910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1" name="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894" idx="0"/>
            <a:endCxn id="908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902" idx="0"/>
            <a:endCxn id="916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885" idx="3"/>
            <a:endCxn id="920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20" name="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28" name="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0" name=""/>
          <p:cNvCxnSpPr>
            <a:stCxn id="931" idx="2"/>
            <a:endCxn id="929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28" idx="2"/>
            <a:endCxn id="933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5" name=""/>
          <p:cNvCxnSpPr>
            <a:stCxn id="932" idx="3"/>
            <a:endCxn id="936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7" name="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2" name=""/>
          <p:cNvCxnSpPr>
            <a:stCxn id="932" idx="2"/>
            <a:endCxn id="941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31" idx="3"/>
            <a:endCxn id="945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45" name="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55" name="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7" name=""/>
          <p:cNvCxnSpPr>
            <a:stCxn id="952" idx="2"/>
            <a:endCxn id="956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58" name="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59" name="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60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66" name="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8" name=""/>
          <p:cNvCxnSpPr>
            <a:stCxn id="969" idx="3"/>
            <a:endCxn id="967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0" name="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62" idx="2"/>
            <a:endCxn id="971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73" name=""/>
          <p:cNvCxnSpPr>
            <a:stCxn id="966" idx="0"/>
            <a:endCxn id="963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69" idx="2"/>
            <a:endCxn id="976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1" name=""/>
          <p:cNvCxnSpPr>
            <a:stCxn id="979" idx="2"/>
            <a:endCxn id="952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82" name="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2" idx="4"/>
            <a:endCxn id="955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9680" y="98424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1680" y="1638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784520" y="2001960"/>
            <a:ext cx="2754360" cy="398880"/>
            <a:chOff x="1784520" y="2001960"/>
            <a:chExt cx="2754360" cy="398880"/>
          </a:xfrm>
        </p:grpSpPr>
        <p:sp>
          <p:nvSpPr>
            <p:cNvPr id="989" name=""/>
            <p:cNvSpPr/>
            <p:nvPr/>
          </p:nvSpPr>
          <p:spPr>
            <a:xfrm>
              <a:off x="2008080" y="200196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84520" y="21333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1" name=""/>
          <p:cNvCxnSpPr>
            <a:stCxn id="986" idx="2"/>
            <a:endCxn id="990" idx="2"/>
          </p:cNvCxnSpPr>
          <p:nvPr/>
        </p:nvCxnSpPr>
        <p:spPr>
          <a:xfrm flipH="1" rot="16200000">
            <a:off x="1176120" y="1647360"/>
            <a:ext cx="8038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92" name=""/>
          <p:cNvGrpSpPr/>
          <p:nvPr/>
        </p:nvGrpSpPr>
        <p:grpSpPr>
          <a:xfrm>
            <a:off x="1784520" y="3059280"/>
            <a:ext cx="3179880" cy="398880"/>
            <a:chOff x="1784520" y="3059280"/>
            <a:chExt cx="3179880" cy="398880"/>
          </a:xfrm>
        </p:grpSpPr>
        <p:sp>
          <p:nvSpPr>
            <p:cNvPr id="993" name=""/>
            <p:cNvSpPr/>
            <p:nvPr/>
          </p:nvSpPr>
          <p:spPr>
            <a:xfrm>
              <a:off x="2020680" y="30592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84520" y="3190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5" name=""/>
          <p:cNvCxnSpPr>
            <a:stCxn id="986" idx="2"/>
            <a:endCxn id="994" idx="2"/>
          </p:cNvCxnSpPr>
          <p:nvPr/>
        </p:nvCxnSpPr>
        <p:spPr>
          <a:xfrm flipH="1" rot="16200000">
            <a:off x="647640" y="2176200"/>
            <a:ext cx="18612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4591080" y="1104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69680" y="8208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96" idx="2"/>
            <a:endCxn id="986" idx="3"/>
          </p:cNvCxnSpPr>
          <p:nvPr/>
        </p:nvCxnSpPr>
        <p:spPr>
          <a:xfrm rot="10800000">
            <a:off x="2415600" y="119628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4818240" y="104940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94320" y="15937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"/>
          <p:cNvCxnSpPr>
            <a:stCxn id="1000" idx="2"/>
            <a:endCxn id="1002" idx="2"/>
          </p:cNvCxnSpPr>
          <p:nvPr/>
        </p:nvCxnSpPr>
        <p:spPr>
          <a:xfrm rot="10800000">
            <a:off x="1896480" y="139644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2633400" y="13129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78040" y="1174680"/>
            <a:ext cx="23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784520" y="2530440"/>
            <a:ext cx="2697120" cy="398880"/>
            <a:chOff x="1784520" y="2530440"/>
            <a:chExt cx="2697120" cy="398880"/>
          </a:xfrm>
        </p:grpSpPr>
        <p:sp>
          <p:nvSpPr>
            <p:cNvPr id="1005" name=""/>
            <p:cNvSpPr/>
            <p:nvPr/>
          </p:nvSpPr>
          <p:spPr>
            <a:xfrm>
              <a:off x="2007360" y="253044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4520" y="2662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784520" y="3587760"/>
            <a:ext cx="2838960" cy="398880"/>
            <a:chOff x="1784520" y="3587760"/>
            <a:chExt cx="2838960" cy="398880"/>
          </a:xfrm>
        </p:grpSpPr>
        <p:sp>
          <p:nvSpPr>
            <p:cNvPr id="1008" name=""/>
            <p:cNvSpPr/>
            <p:nvPr/>
          </p:nvSpPr>
          <p:spPr>
            <a:xfrm>
              <a:off x="2021040" y="358776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84520" y="37195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1784520" y="4118040"/>
            <a:ext cx="2755440" cy="398880"/>
            <a:chOff x="1784520" y="4118040"/>
            <a:chExt cx="2755440" cy="398880"/>
          </a:xfrm>
        </p:grpSpPr>
        <p:sp>
          <p:nvSpPr>
            <p:cNvPr id="1011" name=""/>
            <p:cNvSpPr/>
            <p:nvPr/>
          </p:nvSpPr>
          <p:spPr>
            <a:xfrm>
              <a:off x="2022840" y="411804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84520" y="424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784520" y="4646520"/>
            <a:ext cx="2698200" cy="398880"/>
            <a:chOff x="1784520" y="4646520"/>
            <a:chExt cx="2698200" cy="398880"/>
          </a:xfrm>
        </p:grpSpPr>
        <p:sp>
          <p:nvSpPr>
            <p:cNvPr id="1014" name=""/>
            <p:cNvSpPr/>
            <p:nvPr/>
          </p:nvSpPr>
          <p:spPr>
            <a:xfrm>
              <a:off x="2022120" y="464652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84520" y="47782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784520" y="5175360"/>
            <a:ext cx="3024360" cy="398880"/>
            <a:chOff x="1784520" y="5175360"/>
            <a:chExt cx="3024360" cy="398880"/>
          </a:xfrm>
        </p:grpSpPr>
        <p:sp>
          <p:nvSpPr>
            <p:cNvPr id="1017" name=""/>
            <p:cNvSpPr/>
            <p:nvPr/>
          </p:nvSpPr>
          <p:spPr>
            <a:xfrm>
              <a:off x="2020680" y="517536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4520" y="5307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784520" y="5705640"/>
            <a:ext cx="4254480" cy="398880"/>
            <a:chOff x="1784520" y="5705640"/>
            <a:chExt cx="4254480" cy="398880"/>
          </a:xfrm>
        </p:grpSpPr>
        <p:sp>
          <p:nvSpPr>
            <p:cNvPr id="1020" name=""/>
            <p:cNvSpPr/>
            <p:nvPr/>
          </p:nvSpPr>
          <p:spPr>
            <a:xfrm>
              <a:off x="2017800" y="570564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4520" y="58370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2" name=""/>
          <p:cNvCxnSpPr>
            <a:stCxn id="986" idx="2"/>
            <a:endCxn id="1006" idx="2"/>
          </p:cNvCxnSpPr>
          <p:nvPr/>
        </p:nvCxnSpPr>
        <p:spPr>
          <a:xfrm flipH="1" rot="16200000">
            <a:off x="911880" y="1911600"/>
            <a:ext cx="13323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86" idx="2"/>
            <a:endCxn id="1009" idx="2"/>
          </p:cNvCxnSpPr>
          <p:nvPr/>
        </p:nvCxnSpPr>
        <p:spPr>
          <a:xfrm flipH="1" rot="16200000">
            <a:off x="383400" y="2440440"/>
            <a:ext cx="2389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86" idx="2"/>
            <a:endCxn id="1012" idx="2"/>
          </p:cNvCxnSpPr>
          <p:nvPr/>
        </p:nvCxnSpPr>
        <p:spPr>
          <a:xfrm flipH="1" rot="16200000">
            <a:off x="118080" y="2705400"/>
            <a:ext cx="29199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86" idx="2"/>
            <a:endCxn id="1015" idx="2"/>
          </p:cNvCxnSpPr>
          <p:nvPr/>
        </p:nvCxnSpPr>
        <p:spPr>
          <a:xfrm flipH="1" rot="16200000">
            <a:off x="-146160" y="2969640"/>
            <a:ext cx="34484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6" idx="2"/>
            <a:endCxn id="1018" idx="2"/>
          </p:cNvCxnSpPr>
          <p:nvPr/>
        </p:nvCxnSpPr>
        <p:spPr>
          <a:xfrm flipH="1" rot="16200000">
            <a:off x="-410400" y="3234240"/>
            <a:ext cx="39772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6" idx="2"/>
            <a:endCxn id="1021" idx="2"/>
          </p:cNvCxnSpPr>
          <p:nvPr/>
        </p:nvCxnSpPr>
        <p:spPr>
          <a:xfrm flipH="1" rot="16200000">
            <a:off x="-675720" y="349920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1079640" y="1219320"/>
            <a:ext cx="7391160" cy="4781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3543840" y="30312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455560" y="738360"/>
            <a:ext cx="1390680" cy="2206440"/>
            <a:chOff x="2455560" y="738360"/>
            <a:chExt cx="1390680" cy="2206440"/>
          </a:xfrm>
        </p:grpSpPr>
        <p:sp>
          <p:nvSpPr>
            <p:cNvPr id="1037" name=""/>
            <p:cNvSpPr/>
            <p:nvPr/>
          </p:nvSpPr>
          <p:spPr>
            <a:xfrm>
              <a:off x="3846240" y="73836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555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746680" y="738360"/>
            <a:ext cx="1433880" cy="2222280"/>
            <a:chOff x="5746680" y="738360"/>
            <a:chExt cx="1433880" cy="2222280"/>
          </a:xfrm>
        </p:grpSpPr>
        <p:sp>
          <p:nvSpPr>
            <p:cNvPr id="1040" name=""/>
            <p:cNvSpPr/>
            <p:nvPr/>
          </p:nvSpPr>
          <p:spPr>
            <a:xfrm>
              <a:off x="58179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46680" y="738360"/>
              <a:ext cx="0" cy="222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730840" y="1544760"/>
            <a:ext cx="2665800" cy="2881440"/>
            <a:chOff x="5730840" y="1544760"/>
            <a:chExt cx="2665800" cy="2881440"/>
          </a:xfrm>
        </p:grpSpPr>
        <p:sp>
          <p:nvSpPr>
            <p:cNvPr id="1043" name=""/>
            <p:cNvSpPr/>
            <p:nvPr/>
          </p:nvSpPr>
          <p:spPr>
            <a:xfrm>
              <a:off x="5730840" y="298764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29920" y="402732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66600" y="344952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2136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7" name=""/>
            <p:cNvCxnSpPr>
              <a:stCxn id="1043" idx="2"/>
              <a:endCxn id="1046" idx="0"/>
            </p:cNvCxnSpPr>
            <p:nvPr/>
          </p:nvCxnSpPr>
          <p:spPr>
            <a:xfrm flipH="1">
              <a:off x="6996960" y="342684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48" name=""/>
            <p:cNvSpPr/>
            <p:nvPr/>
          </p:nvSpPr>
          <p:spPr>
            <a:xfrm>
              <a:off x="5913720" y="154476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21360" y="1976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79920" y="225108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9" idx="4"/>
              <a:endCxn id="1043" idx="0"/>
            </p:cNvCxnSpPr>
            <p:nvPr/>
          </p:nvCxnSpPr>
          <p:spPr>
            <a:xfrm>
              <a:off x="6997320" y="214308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52" name=""/>
          <p:cNvGrpSpPr/>
          <p:nvPr/>
        </p:nvGrpSpPr>
        <p:grpSpPr>
          <a:xfrm>
            <a:off x="1111680" y="1484280"/>
            <a:ext cx="3418920" cy="4150440"/>
            <a:chOff x="1111680" y="1484280"/>
            <a:chExt cx="3418920" cy="4150440"/>
          </a:xfrm>
        </p:grpSpPr>
        <p:sp>
          <p:nvSpPr>
            <p:cNvPr id="1053" name=""/>
            <p:cNvSpPr/>
            <p:nvPr/>
          </p:nvSpPr>
          <p:spPr>
            <a:xfrm>
              <a:off x="1587240" y="493092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4" name=""/>
            <p:cNvCxnSpPr>
              <a:stCxn id="1055" idx="2"/>
              <a:endCxn id="1056" idx="0"/>
            </p:cNvCxnSpPr>
            <p:nvPr/>
          </p:nvCxnSpPr>
          <p:spPr>
            <a:xfrm>
              <a:off x="2625120" y="339696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7" name=""/>
            <p:cNvSpPr/>
            <p:nvPr/>
          </p:nvSpPr>
          <p:spPr>
            <a:xfrm>
              <a:off x="2704320" y="343368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0680" y="3779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1680" y="29574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53960" y="39384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8" idx="2"/>
              <a:endCxn id="1060" idx="0"/>
            </p:cNvCxnSpPr>
            <p:nvPr/>
          </p:nvCxnSpPr>
          <p:spPr>
            <a:xfrm>
              <a:off x="2627280" y="437796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1" name=""/>
            <p:cNvSpPr/>
            <p:nvPr/>
          </p:nvSpPr>
          <p:spPr>
            <a:xfrm>
              <a:off x="2774880" y="440064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0680" y="4746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67560" y="148428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9520" y="191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77760" y="210348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5" name=""/>
            <p:cNvCxnSpPr>
              <a:stCxn id="1063" idx="4"/>
              <a:endCxn id="1055" idx="0"/>
            </p:cNvCxnSpPr>
            <p:nvPr/>
          </p:nvCxnSpPr>
          <p:spPr>
            <a:xfrm>
              <a:off x="2625120" y="208224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70000" y="93348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93348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0320" y="878040"/>
            <a:ext cx="6167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4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5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85720" y="96192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068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6"/>
            <a:endCxn id="153" idx="1"/>
          </p:cNvCxnSpPr>
          <p:nvPr/>
        </p:nvCxnSpPr>
        <p:spPr>
          <a:xfrm>
            <a:off x="3935160" y="116172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3" idx="2"/>
            <a:endCxn id="157" idx="0"/>
          </p:cNvCxnSpPr>
          <p:nvPr/>
        </p:nvCxnSpPr>
        <p:spPr>
          <a:xfrm>
            <a:off x="7507440" y="140184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451200" y="20509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4760" y="291456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1000" y="4838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27520" y="3965400"/>
            <a:ext cx="3232440" cy="703800"/>
            <a:chOff x="5627520" y="3965400"/>
            <a:chExt cx="3232440" cy="703800"/>
          </a:xfrm>
        </p:grpSpPr>
        <p:sp>
          <p:nvSpPr>
            <p:cNvPr id="163" name=""/>
            <p:cNvSpPr/>
            <p:nvPr/>
          </p:nvSpPr>
          <p:spPr>
            <a:xfrm>
              <a:off x="5846040" y="3965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7520" y="4241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6" idx="3"/>
            <a:endCxn id="164" idx="2"/>
          </p:cNvCxnSpPr>
          <p:nvPr/>
        </p:nvCxnSpPr>
        <p:spPr>
          <a:xfrm>
            <a:off x="3919320" y="325404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817320" y="55040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5880" y="3041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0"/>
            <a:endCxn id="163" idx="2"/>
          </p:cNvCxnSpPr>
          <p:nvPr/>
        </p:nvCxnSpPr>
        <p:spPr>
          <a:xfrm flipH="1" flipV="1">
            <a:off x="7352640" y="470952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70" name=""/>
          <p:cNvGrpSpPr/>
          <p:nvPr/>
        </p:nvGrpSpPr>
        <p:grpSpPr>
          <a:xfrm>
            <a:off x="975240" y="4370400"/>
            <a:ext cx="858240" cy="398880"/>
            <a:chOff x="975240" y="4370400"/>
            <a:chExt cx="858240" cy="398880"/>
          </a:xfrm>
        </p:grpSpPr>
        <p:sp>
          <p:nvSpPr>
            <p:cNvPr id="171" name=""/>
            <p:cNvSpPr/>
            <p:nvPr/>
          </p:nvSpPr>
          <p:spPr>
            <a:xfrm>
              <a:off x="975240" y="437040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6280" y="44719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9040" y="3843360"/>
            <a:ext cx="1234440" cy="398880"/>
            <a:chOff x="599040" y="3843360"/>
            <a:chExt cx="1234440" cy="398880"/>
          </a:xfrm>
        </p:grpSpPr>
        <p:sp>
          <p:nvSpPr>
            <p:cNvPr id="174" name=""/>
            <p:cNvSpPr/>
            <p:nvPr/>
          </p:nvSpPr>
          <p:spPr>
            <a:xfrm>
              <a:off x="599040" y="384336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628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7880" y="4890960"/>
            <a:ext cx="1335240" cy="398880"/>
            <a:chOff x="497880" y="4890960"/>
            <a:chExt cx="1335240" cy="398880"/>
          </a:xfrm>
        </p:grpSpPr>
        <p:sp>
          <p:nvSpPr>
            <p:cNvPr id="177" name=""/>
            <p:cNvSpPr/>
            <p:nvPr/>
          </p:nvSpPr>
          <p:spPr>
            <a:xfrm>
              <a:off x="497880" y="489096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5920" y="5008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90440" y="3562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6" idx="2"/>
            <a:endCxn id="175" idx="6"/>
          </p:cNvCxnSpPr>
          <p:nvPr/>
        </p:nvCxnSpPr>
        <p:spPr>
          <a:xfrm rot="5400000">
            <a:off x="1818000" y="352476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6" idx="2"/>
            <a:endCxn id="172" idx="6"/>
          </p:cNvCxnSpPr>
          <p:nvPr/>
        </p:nvCxnSpPr>
        <p:spPr>
          <a:xfrm rot="5400000">
            <a:off x="1561680" y="3781080"/>
            <a:ext cx="10846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6" idx="2"/>
            <a:endCxn id="178" idx="6"/>
          </p:cNvCxnSpPr>
          <p:nvPr/>
        </p:nvCxnSpPr>
        <p:spPr>
          <a:xfrm rot="5400000">
            <a:off x="1293120" y="404964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39120" y="54547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57452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66" idx="2"/>
            <a:endCxn id="184" idx="6"/>
          </p:cNvCxnSpPr>
          <p:nvPr/>
        </p:nvCxnSpPr>
        <p:spPr>
          <a:xfrm rot="5400000">
            <a:off x="933480" y="442656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3762720" y="36687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7960" y="8082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9040" y="2735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80280" y="5348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2200" y="1158840"/>
            <a:ext cx="222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71760" y="119052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9360" y="112716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6960" y="93492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8400" y="28130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8" idx="2"/>
            <a:endCxn id="192" idx="0"/>
          </p:cNvCxnSpPr>
          <p:nvPr/>
        </p:nvCxnSpPr>
        <p:spPr>
          <a:xfrm rot="5400000">
            <a:off x="614520" y="2065680"/>
            <a:ext cx="1435680" cy="2160"/>
          </a:xfrm>
          <a:prstGeom prst="bentConnector3">
            <a:avLst>
              <a:gd name="adj1" fmla="val 5099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036880" y="148428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2200" y="19954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24908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1880" y="2089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612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5320" y="18050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2920" y="2325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34000" y="1576440"/>
            <a:ext cx="1524240" cy="376200"/>
            <a:chOff x="4734000" y="1576440"/>
            <a:chExt cx="1524240" cy="376200"/>
          </a:xfrm>
        </p:grpSpPr>
        <p:sp>
          <p:nvSpPr>
            <p:cNvPr id="202" name=""/>
            <p:cNvSpPr/>
            <p:nvPr/>
          </p:nvSpPr>
          <p:spPr>
            <a:xfrm>
              <a:off x="4734000" y="17319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933080" y="1576440"/>
              <a:ext cx="1325160" cy="376200"/>
              <a:chOff x="4933080" y="1576440"/>
              <a:chExt cx="1325160" cy="376200"/>
            </a:xfrm>
          </p:grpSpPr>
          <p:sp>
            <p:nvSpPr>
              <p:cNvPr id="204" name=""/>
              <p:cNvSpPr/>
              <p:nvPr/>
            </p:nvSpPr>
            <p:spPr>
              <a:xfrm>
                <a:off x="4933080" y="1576440"/>
                <a:ext cx="13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INTEGER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27200" y="1587240"/>
                <a:ext cx="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6" name=""/>
          <p:cNvCxnSpPr>
            <a:stCxn id="198" idx="2"/>
            <a:endCxn id="189" idx="2"/>
          </p:cNvCxnSpPr>
          <p:nvPr/>
        </p:nvCxnSpPr>
        <p:spPr>
          <a:xfrm rot="10800000">
            <a:off x="1721880" y="1348560"/>
            <a:ext cx="2226240" cy="1358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7" idx="2"/>
            <a:endCxn id="191" idx="2"/>
          </p:cNvCxnSpPr>
          <p:nvPr/>
        </p:nvCxnSpPr>
        <p:spPr>
          <a:xfrm rot="10800000">
            <a:off x="2328120" y="1374120"/>
            <a:ext cx="1629360" cy="808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2" idx="2"/>
            <a:endCxn id="190" idx="2"/>
          </p:cNvCxnSpPr>
          <p:nvPr/>
        </p:nvCxnSpPr>
        <p:spPr>
          <a:xfrm rot="10800000">
            <a:off x="2991600" y="1348560"/>
            <a:ext cx="1728000" cy="459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076560" y="1440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60" y="123660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1520" y="139212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3360" y="15127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1" idx="3"/>
          </p:cNvCxnSpPr>
          <p:nvPr/>
        </p:nvCxnSpPr>
        <p:spPr>
          <a:xfrm flipH="1" flipV="1">
            <a:off x="1466640" y="1601280"/>
            <a:ext cx="4418640" cy="57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7477200" y="1831680"/>
            <a:ext cx="8640" cy="88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7503480" y="2195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83000" y="291636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988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75200" y="12128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3360" y="575640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5240" y="572760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3967200"/>
            <a:ext cx="2151360" cy="613440"/>
            <a:chOff x="279360" y="3967200"/>
            <a:chExt cx="2151360" cy="613440"/>
          </a:xfrm>
        </p:grpSpPr>
        <p:sp>
          <p:nvSpPr>
            <p:cNvPr id="224" name=""/>
            <p:cNvSpPr/>
            <p:nvPr/>
          </p:nvSpPr>
          <p:spPr>
            <a:xfrm>
              <a:off x="279360" y="418176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3967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10720" y="48276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309560" y="3981600"/>
            <a:ext cx="3192480" cy="629280"/>
            <a:chOff x="4309560" y="3981600"/>
            <a:chExt cx="3192480" cy="629280"/>
          </a:xfrm>
        </p:grpSpPr>
        <p:sp>
          <p:nvSpPr>
            <p:cNvPr id="228" name=""/>
            <p:cNvSpPr/>
            <p:nvPr/>
          </p:nvSpPr>
          <p:spPr>
            <a:xfrm>
              <a:off x="4309560" y="4212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9960" y="3981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9760" y="4381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408800" y="27352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7360" y="4338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55404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9200" y="5511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4" idx="2"/>
            <a:endCxn id="233" idx="0"/>
          </p:cNvCxnSpPr>
          <p:nvPr/>
        </p:nvCxnSpPr>
        <p:spPr>
          <a:xfrm flipH="1">
            <a:off x="1342440" y="462132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8" idx="2"/>
            <a:endCxn id="232" idx="0"/>
          </p:cNvCxnSpPr>
          <p:nvPr/>
        </p:nvCxnSpPr>
        <p:spPr>
          <a:xfrm>
            <a:off x="5816160" y="4650840"/>
            <a:ext cx="2520" cy="861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1" idx="3"/>
            <a:endCxn id="230" idx="6"/>
          </p:cNvCxnSpPr>
          <p:nvPr/>
        </p:nvCxnSpPr>
        <p:spPr>
          <a:xfrm flipH="1" flipV="1">
            <a:off x="7516080" y="445752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2" idx="3"/>
            <a:endCxn id="231" idx="6"/>
          </p:cNvCxnSpPr>
          <p:nvPr/>
        </p:nvCxnSpPr>
        <p:spPr>
          <a:xfrm flipH="1" flipV="1">
            <a:off x="2623680" y="4414320"/>
            <a:ext cx="565920" cy="1526400"/>
          </a:xfrm>
          <a:prstGeom prst="bentConnector3">
            <a:avLst>
              <a:gd name="adj1" fmla="val -37873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211" idx="2"/>
            <a:endCxn id="225" idx="0"/>
          </p:cNvCxnSpPr>
          <p:nvPr/>
        </p:nvCxnSpPr>
        <p:spPr>
          <a:xfrm flipH="1" rot="16200000">
            <a:off x="102960" y="2687400"/>
            <a:ext cx="1958400" cy="545040"/>
          </a:xfrm>
          <a:prstGeom prst="bentConnector3">
            <a:avLst>
              <a:gd name="adj1" fmla="val 5035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1" idx="2"/>
            <a:endCxn id="229" idx="0"/>
          </p:cNvCxnSpPr>
          <p:nvPr/>
        </p:nvCxnSpPr>
        <p:spPr>
          <a:xfrm flipH="1" rot="16200000">
            <a:off x="2319840" y="46944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2622960" y="488484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052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760" y="385776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46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0"/>
            <a:endCxn id="2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54" name="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57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2"/>
            <a:endCxn id="2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9" idx="2"/>
            <a:endCxn id="257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9" idx="2"/>
            <a:endCxn id="254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5" idx="3"/>
            <a:endCxn id="266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5" idx="0"/>
            <a:endCxn id="269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1:47Z</dcterms:modified>
  <cp:revision>100</cp:revision>
  <dc:subject/>
  <dc:title>LPM/5 - Design Constructs</dc:title>
</cp:coreProperties>
</file>